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AB750-A401-4888-AD73-66AEF46BD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6FD9-AB6D-4D0B-94E4-EB6AD61B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509C-480B-4A58-B550-C904D5415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75F9-D578-4911-BB03-2706D1070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EF5A-2756-4526-BEA9-0753D4996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B3B17-55DC-4BBA-A3F8-DC32A81E5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0E050-15F2-4943-8204-2F57A85DF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9BF2E-14CD-4F2D-BE62-C16059BCB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F23A6-0AEC-4F53-A36F-0DAC47FC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B6AC-034C-49FD-9DAE-7CD8A81F4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C41E-F9A4-4A9D-8B5B-ACED7B90F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255-945C-4778-9FB2-3F3F07A6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F9DA6-9C83-49F2-94EA-972C6A4F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DB339-47CD-4EAB-96FD-A881CC237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5D2E9-7E64-4E8A-A606-F2583983E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26B66-2011-4996-97DE-900CA11FD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44C26-9571-4073-B6D4-ECD53DEDE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38648-6C5E-41A3-BA8C-EF0BA0322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1FEF-95F8-40AA-B727-EEAF4A12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8343-0D77-4F37-9034-D94DE3105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646F-BC2B-4C74-81CE-2A0BDFC24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3D18-C85B-44BB-851A-400E4C52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28E3E-CF4F-433F-906F-3F58A1F1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3D9C-227A-46EB-B616-A8A01D56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0693-5BA8-4B4B-AA63-A1E7E6636FBA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80D98-F59A-46AE-89B3-5EBF6181670B}" type="slidenum">
              <a:rPr b="0" lang="zh-CN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healthy.net/asp/Ads.asp?Ad=821" TargetMode="External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safetyprograms.org/images/FA-462.gif&amp;imgrefurl=http://www.safetyprograms.org/fasurvival.html&amp;h=318&amp;w=400&amp;sz=30&amp;tbnid=Kv61i2HDp00J:&amp;tbnh=95&amp;tbnw=119&amp;start=150&amp;prev=/images%3Fq%3Dfirst%2Baid%26start%3D140%26hl%3Dzh-CN%26lr%3D%26ie%3DUTF-8%26sa%3DN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com/imgres?imgurl=http://www.jwrworkings.com/first%2520aid%25202.jpg&amp;imgrefurl=http://www.jwrworkings.com/minerescue.html&amp;h=444&amp;w=576&amp;sz=25&amp;tbnid=blPHrDl0EWkJ:&amp;tbnh=101&amp;tbnw=131&amp;start=5&amp;prev=/images%3Fq%3Dfirst%2Baid%26hl%3Dzh-CN%26lr%3D%26ie%3DUTF-8%26sa%3D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images.google.com/imgres?imgurl=http://www.bbc.co.uk/health/images/medicine_kids.jpg&amp;imgrefurl=http://www.bbc.co.uk/health/features/medicine_cabinet.shtml&amp;h=248&amp;w=183&amp;sz=21&amp;tbnid=9MB8TxHcZuUJ:&amp;tbnh=105&amp;tbnw=78&amp;start=8&amp;prev=/images%3Fq%3Dfirst%2Baid%26hl%3Dzh-CN%26lr%3D%26ie%3DUTF-8%26sa%3DG" TargetMode="External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533160"/>
            <a:ext cx="60962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00"/>
                </a:solidFill>
                <a:latin typeface="Comic Sans MS"/>
              </a:rPr>
              <a:t>DEALING WITH COMMON INJURIES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09" name="First%20Aid%20CD" descr=""/>
          <p:cNvPicPr/>
          <p:nvPr/>
        </p:nvPicPr>
        <p:blipFill>
          <a:blip r:embed="rId1"/>
          <a:srcRect l="19904" t="19067" r="7909" b="32039"/>
          <a:stretch/>
        </p:blipFill>
        <p:spPr>
          <a:xfrm>
            <a:off x="2514600" y="1905120"/>
            <a:ext cx="5257800" cy="4343400"/>
          </a:xfrm>
          <a:prstGeom prst="rect">
            <a:avLst/>
          </a:prstGeom>
          <a:ln w="0">
            <a:noFill/>
          </a:ln>
        </p:spPr>
      </p:pic>
      <p:pic>
        <p:nvPicPr>
          <p:cNvPr id="210" name="PH_Lark_120x600" descr="Susan">
            <a:hlinkClick r:id="rId2"/>
          </p:cNvPr>
          <p:cNvPicPr/>
          <p:nvPr/>
        </p:nvPicPr>
        <p:blipFill>
          <a:blip r:embed="rId3"/>
          <a:srcRect l="0" t="0" r="0" b="75559"/>
          <a:stretch/>
        </p:blipFill>
        <p:spPr>
          <a:xfrm>
            <a:off x="228600" y="228600"/>
            <a:ext cx="1933560" cy="2362320"/>
          </a:xfrm>
          <a:prstGeom prst="rect">
            <a:avLst/>
          </a:prstGeom>
          <a:ln w="0">
            <a:noFill/>
          </a:ln>
        </p:spPr>
      </p:pic>
      <p:pic>
        <p:nvPicPr>
          <p:cNvPr id="211" name="53010Ml" descr=""/>
          <p:cNvPicPr/>
          <p:nvPr/>
        </p:nvPicPr>
        <p:blipFill>
          <a:blip r:embed="rId4"/>
          <a:stretch/>
        </p:blipFill>
        <p:spPr>
          <a:xfrm>
            <a:off x="5029200" y="1981080"/>
            <a:ext cx="3238560" cy="2373480"/>
          </a:xfrm>
          <a:prstGeom prst="rect">
            <a:avLst/>
          </a:prstGeom>
          <a:ln w="0">
            <a:noFill/>
          </a:ln>
        </p:spPr>
      </p:pic>
      <p:pic>
        <p:nvPicPr>
          <p:cNvPr id="212" name="2001%20first%20aid%20Sarah%20S_jpg_jpg" descr=""/>
          <p:cNvPicPr/>
          <p:nvPr/>
        </p:nvPicPr>
        <p:blipFill>
          <a:blip r:embed="rId5"/>
          <a:srcRect l="0" t="0" r="27147" b="0"/>
          <a:stretch/>
        </p:blipFill>
        <p:spPr>
          <a:xfrm>
            <a:off x="1219320" y="3733920"/>
            <a:ext cx="19810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228600" y="30492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Verdana"/>
              </a:rPr>
              <a:t>WRITING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9907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rite a paragraph in which you tell your friend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give first aid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 Choose one of the accidents from the reading reading passage or from daily lif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295280" y="2971800"/>
            <a:ext cx="457200" cy="3124080"/>
          </a:xfrm>
          <a:custGeom>
            <a:avLst/>
            <a:gdLst>
              <a:gd name="textAreaLeft" fmla="*/ 292320 w 457200"/>
              <a:gd name="textAreaRight" fmla="*/ 457560 w 45720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124080"/>
            <a:ext cx="4038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acciden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828800" y="41148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(basic step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525780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ips to rememb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3352680"/>
            <a:ext cx="3352680" cy="20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/Then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181480" y="3657600"/>
            <a:ext cx="304920" cy="14479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  <a:ea typeface="GungsuhChe"/>
              </a:rPr>
              <a:t>Task 2   Making a first-aid kit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15238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well-stocked first-aid kit, kept in easy reach, is necessary in every home. It should include: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68580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A first-aid kit is a box or bag of useful items and information that may be helpful </a:t>
            </a:r>
            <a:r>
              <a:rPr b="0" lang="en-US" sz="2400" spc="-1" strike="noStrike">
                <a:solidFill>
                  <a:srgbClr val="ff66ff"/>
                </a:solidFill>
                <a:latin typeface="Verdana"/>
              </a:rPr>
              <a:t>in case of emergency</a:t>
            </a: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6360" y="2387520"/>
            <a:ext cx="21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bandage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80880" y="37339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soap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733920" y="3733920"/>
            <a:ext cx="24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sharp scisso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279960" y="3048120"/>
            <a:ext cx="284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thermometer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7360" y="4495680"/>
            <a:ext cx="48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plastic gloves (at least 2 pairs)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62120" y="3048120"/>
            <a:ext cx="173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flashligh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733920" y="2387520"/>
            <a:ext cx="139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alcohol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80880" y="5257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  <a:ea typeface="宋体"/>
              </a:rPr>
              <a:t>your list of emergency phone number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990720" y="60199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0458c"/>
                </a:solidFill>
                <a:latin typeface="Verdana"/>
              </a:rPr>
              <a:t>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0" name="delux-first-aid-kit" descr=""/>
          <p:cNvPicPr/>
          <p:nvPr/>
        </p:nvPicPr>
        <p:blipFill>
          <a:blip r:embed="rId1"/>
          <a:srcRect l="9999" t="0" r="7498" b="0"/>
          <a:stretch/>
        </p:blipFill>
        <p:spPr>
          <a:xfrm>
            <a:off x="6337440" y="2286000"/>
            <a:ext cx="257796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304920" y="685800"/>
            <a:ext cx="8610480" cy="40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ranslation: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如果我们在家发现有人胳膊严重被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切伤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或砍伤怎  么办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: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首先我们必须尽量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止住血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，然后为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找医生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不能抬起或动他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我们必须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阻止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小孩子误食毒药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你作为家长，应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确保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电线食安全的。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）他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丧失知觉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了，我们该马上</a:t>
            </a:r>
            <a:r>
              <a:rPr b="1" lang="zh-CN" sz="2800" spc="-1" strike="noStrike">
                <a:solidFill>
                  <a:srgbClr val="ff66ff"/>
                </a:solidFill>
                <a:latin typeface="Arial Narrow"/>
              </a:rPr>
              <a:t>叫救护车</a:t>
            </a: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吗？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349280" y="76320"/>
            <a:ext cx="242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Tahoma"/>
              </a:rPr>
              <a:t>Homework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9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400800" y="4800600"/>
            <a:ext cx="212256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79200" y="2286000"/>
            <a:ext cx="644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www.healthy.net/clinic/firstaid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04920" y="533520"/>
            <a:ext cx="883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f you want more tips about first aids and ways to deal with common injuries, refer to the following websit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925560" y="3352680"/>
            <a:ext cx="715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kidshealth.org/parent/firstaid_safe/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26280" y="4267080"/>
            <a:ext cx="733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ttp://mi.essortment.com/firstaid_rfrg.htm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34480" y="5410080"/>
            <a:ext cx="79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Verdana"/>
              </a:rPr>
              <a:t>http://www.emedicinehealth.com/articles/25936-7.asp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304920" y="45720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00"/>
                </a:solidFill>
                <a:latin typeface="Arial Narrow"/>
              </a:rPr>
              <a:t>What are common injuries?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1523880"/>
            <a:ext cx="845820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Common injuries are accidents that easily happen at home. We may not be able to prevent them from happening, but everyone should know what to do if an accident happens.</a:t>
            </a:r>
            <a:r>
              <a:rPr b="0" lang="en-US" sz="3200" spc="-1" strike="noStrike" u="sng">
                <a:solidFill>
                  <a:srgbClr val="6f89f7"/>
                </a:solidFill>
                <a:uFillTx/>
                <a:latin typeface="GungsuhChe"/>
                <a:ea typeface="GungsuhChe"/>
                <a:hlinkClick r:id="rId1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GungsuhChe"/>
                <a:ea typeface="GungsuhChe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5" name="0763713228" descr=""/>
          <p:cNvPicPr/>
          <p:nvPr/>
        </p:nvPicPr>
        <p:blipFill>
          <a:blip r:embed="rId2"/>
          <a:srcRect l="7616" t="63636" r="50268" b="12282"/>
          <a:stretch/>
        </p:blipFill>
        <p:spPr>
          <a:xfrm>
            <a:off x="533520" y="4800600"/>
            <a:ext cx="2361960" cy="1676520"/>
          </a:xfrm>
          <a:prstGeom prst="rect">
            <a:avLst/>
          </a:prstGeom>
          <a:ln w="0">
            <a:noFill/>
          </a:ln>
        </p:spPr>
      </p:pic>
      <p:pic>
        <p:nvPicPr>
          <p:cNvPr id="216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95480" y="4038480"/>
            <a:ext cx="2743200" cy="2055960"/>
          </a:xfrm>
          <a:prstGeom prst="rect">
            <a:avLst/>
          </a:prstGeom>
          <a:ln w="0">
            <a:noFill/>
          </a:ln>
        </p:spPr>
      </p:pic>
      <p:pic>
        <p:nvPicPr>
          <p:cNvPr id="217" name="images" descr="">
            <a:hlinkClick r:id="rId5"/>
          </p:cNvPr>
          <p:cNvPicPr/>
          <p:nvPr/>
        </p:nvPicPr>
        <p:blipFill>
          <a:blip r:embed="rId6"/>
          <a:srcRect l="0" t="0" r="0" b="20842"/>
          <a:stretch/>
        </p:blipFill>
        <p:spPr>
          <a:xfrm>
            <a:off x="5638680" y="3657600"/>
            <a:ext cx="27194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0880" y="30492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Arial Narrow"/>
              </a:rPr>
              <a:t>Scanning </a:t>
            </a:r>
            <a:endParaRPr b="0" lang="en-US" sz="4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4400" y="99072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ow many kinds of common injuries are mentioned in this passage?                         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400800" y="14479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</a:rPr>
              <a:t>4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00080" y="3048120"/>
            <a:ext cx="23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724280" y="35053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133720" y="44956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81480" y="4800600"/>
            <a:ext cx="176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02240" y="1981080"/>
            <a:ext cx="63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Do you know their Chinese meaning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 Narrow"/>
              </a:rPr>
              <a:t>Task 1</a:t>
            </a:r>
            <a:endParaRPr b="0" lang="en-US" sz="4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99072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You are a doctor ,tell your classmates how to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deal with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 these 4 common injuries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477120" y="5257800"/>
            <a:ext cx="1676160" cy="609480"/>
          </a:xfrm>
          <a:custGeom>
            <a:avLst/>
            <a:gdLst>
              <a:gd name="textAreaLeft" fmla="*/ 39240 w 1676160"/>
              <a:gd name="textAreaRight" fmla="*/ 1636920 w 16761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9381" h="21600">
                <a:moveTo>
                  <a:pt x="0" y="0"/>
                </a:moveTo>
                <a:lnTo>
                  <a:pt x="59381" y="0"/>
                </a:lnTo>
                <a:lnTo>
                  <a:pt x="59381" y="21600"/>
                </a:lnTo>
                <a:lnTo>
                  <a:pt x="0" y="21600"/>
                </a:lnTo>
                <a:close/>
              </a:path>
              <a:path fill="lightenLess" w="59381" h="21600">
                <a:moveTo>
                  <a:pt x="0" y="0"/>
                </a:moveTo>
                <a:lnTo>
                  <a:pt x="59381" y="0"/>
                </a:lnTo>
                <a:lnTo>
                  <a:pt x="57981" y="1400"/>
                </a:lnTo>
                <a:lnTo>
                  <a:pt x="1400" y="1400"/>
                </a:lnTo>
                <a:close/>
              </a:path>
              <a:path fill="darken" w="59381" h="21600">
                <a:moveTo>
                  <a:pt x="59381" y="0"/>
                </a:moveTo>
                <a:lnTo>
                  <a:pt x="59381" y="21600"/>
                </a:lnTo>
                <a:lnTo>
                  <a:pt x="57981" y="20200"/>
                </a:lnTo>
                <a:lnTo>
                  <a:pt x="57981" y="1400"/>
                </a:lnTo>
                <a:close/>
              </a:path>
              <a:path fill="darkenLess" w="59381" h="21600">
                <a:moveTo>
                  <a:pt x="59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81" y="20200"/>
                </a:lnTo>
                <a:close/>
              </a:path>
              <a:path fill="lighten" w="59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81" h="21600">
                <a:moveTo>
                  <a:pt x="22684" y="3794"/>
                </a:moveTo>
                <a:lnTo>
                  <a:pt x="36697" y="10800"/>
                </a:lnTo>
                <a:lnTo>
                  <a:pt x="22684" y="17806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2514600"/>
            <a:ext cx="22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Now please finish the following tabl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30" name="img_collage" descr=""/>
          <p:cNvPicPr/>
          <p:nvPr/>
        </p:nvPicPr>
        <p:blipFill>
          <a:blip r:embed="rId1"/>
          <a:srcRect l="33662" t="0" r="44525" b="0"/>
          <a:stretch/>
        </p:blipFill>
        <p:spPr>
          <a:xfrm>
            <a:off x="2362320" y="3505320"/>
            <a:ext cx="1644480" cy="1676160"/>
          </a:xfrm>
          <a:prstGeom prst="rect">
            <a:avLst/>
          </a:prstGeom>
          <a:ln w="0">
            <a:noFill/>
          </a:ln>
        </p:spPr>
      </p:pic>
      <p:pic>
        <p:nvPicPr>
          <p:cNvPr id="231" name="img_collage" descr=""/>
          <p:cNvPicPr/>
          <p:nvPr/>
        </p:nvPicPr>
        <p:blipFill>
          <a:blip r:embed="rId2"/>
          <a:srcRect l="77305" t="0" r="2887" b="0"/>
          <a:stretch/>
        </p:blipFill>
        <p:spPr>
          <a:xfrm>
            <a:off x="3962520" y="2743200"/>
            <a:ext cx="1676160" cy="1882800"/>
          </a:xfrm>
          <a:prstGeom prst="rect">
            <a:avLst/>
          </a:prstGeom>
          <a:ln w="0">
            <a:noFill/>
          </a:ln>
        </p:spPr>
      </p:pic>
      <p:pic>
        <p:nvPicPr>
          <p:cNvPr id="232" name="img_collage" descr=""/>
          <p:cNvPicPr/>
          <p:nvPr/>
        </p:nvPicPr>
        <p:blipFill>
          <a:blip r:embed="rId3"/>
          <a:srcRect l="0" t="0" r="81307" b="0"/>
          <a:stretch/>
        </p:blipFill>
        <p:spPr>
          <a:xfrm>
            <a:off x="709560" y="4038480"/>
            <a:ext cx="16653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2438280" y="-76320"/>
            <a:ext cx="3200400" cy="838440"/>
          </a:xfrm>
          <a:prstGeom prst="horizontalScroll">
            <a:avLst>
              <a:gd name="adj" fmla="val 12500"/>
            </a:avLst>
          </a:prstGeom>
          <a:solidFill>
            <a:srgbClr val="ff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90920" y="7632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765000"/>
            <a:ext cx="228600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83664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animal bit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burn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932360" y="90792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40458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cut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42920" y="1628640"/>
            <a:ext cx="360360" cy="648000"/>
          </a:xfrm>
          <a:prstGeom prst="downArrow">
            <a:avLst>
              <a:gd name="adj1" fmla="val 50000"/>
              <a:gd name="adj2" fmla="val 44955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7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5164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2349360"/>
            <a:ext cx="226836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411280" y="2349360"/>
            <a:ext cx="21607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716360" y="2349360"/>
            <a:ext cx="223200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2349360"/>
            <a:ext cx="248436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cold running water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doctor as soon as possibl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340000" y="2349360"/>
            <a:ext cx="2303280" cy="43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ol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skin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under the cold tap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wound with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bandag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/ clean cloth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  doctor if necessary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16360" y="2276640"/>
            <a:ext cx="2448000" cy="45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the area of cu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Dry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Comic Sans MS"/>
              </a:rPr>
              <a:t>Cove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it with a piece of dry clean cloth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top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093080" y="2349360"/>
            <a:ext cx="2050920" cy="45086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164360" y="765000"/>
            <a:ext cx="1584360" cy="83844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956720" y="1628640"/>
            <a:ext cx="287280" cy="648000"/>
          </a:xfrm>
          <a:prstGeom prst="downArrow">
            <a:avLst>
              <a:gd name="adj1" fmla="val 50000"/>
              <a:gd name="adj2" fmla="val 56391"/>
            </a:avLst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164360" y="907920"/>
            <a:ext cx="176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poison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020000" y="2349360"/>
            <a:ext cx="2124000" cy="48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Get him or her to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breathe 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&amp;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pit out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Call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Comic Sans MS"/>
              </a:rPr>
              <a:t>ambulance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Search for</a:t>
            </a:r>
            <a:r>
              <a:rPr b="1" lang="en-US" sz="2800" spc="-1" strike="noStrike">
                <a:solidFill>
                  <a:srgbClr val="40458c"/>
                </a:solidFill>
                <a:latin typeface="Comic Sans MS"/>
              </a:rPr>
              <a:t> any poison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372360" y="2349360"/>
            <a:ext cx="2233440" cy="3384720"/>
          </a:xfrm>
          <a:prstGeom prst="rect">
            <a:avLst/>
          </a:prstGeom>
          <a:solidFill>
            <a:srgbClr val="00cc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24000" y="260280"/>
            <a:ext cx="56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Verdana"/>
              </a:rPr>
              <a:t>APPLICATION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914400"/>
            <a:ext cx="87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What should you do in the following situations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1447920"/>
            <a:ext cx="594036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1 Your little brother  i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itten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by a big do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2 Your mother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burned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herself while she was cooking for you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3 You found your classmate with a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knife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in his leg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4.You found a person who    has </a:t>
            </a:r>
            <a:r>
              <a:rPr b="0" lang="en-US" sz="2800" spc="-1" strike="noStrike">
                <a:solidFill>
                  <a:srgbClr val="008080"/>
                </a:solidFill>
                <a:latin typeface="Verdana"/>
              </a:rPr>
              <a:t>stopped breathing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5. You found a girl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unconscious</a:t>
            </a:r>
            <a:r>
              <a:rPr b="0" lang="en-US" sz="2800" spc="-1" strike="noStrike">
                <a:solidFill>
                  <a:srgbClr val="b2b2b2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on the beach of the park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516720" y="2852640"/>
            <a:ext cx="288144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rst 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Secon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Third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Verdana"/>
              </a:rPr>
              <a:t>Finally, …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228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Verdana"/>
              </a:rPr>
              <a:t>Other common injuries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920" y="10666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How to deal with nose bleeding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1752480"/>
            <a:ext cx="9144000" cy="48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y calm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reathe through the mouth, not the nos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it up and bend the head slightly forward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inch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捏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h nostril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鼻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hut using a thumb and forefing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pit out any blood that collects in the mouth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3" name="images" descr=""/>
          <p:cNvPicPr/>
          <p:nvPr/>
        </p:nvPicPr>
        <p:blipFill>
          <a:blip r:embed="rId1"/>
          <a:stretch/>
        </p:blipFill>
        <p:spPr>
          <a:xfrm>
            <a:off x="6629400" y="380880"/>
            <a:ext cx="21337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228600" y="1523880"/>
            <a:ext cx="8915400" cy="48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ol the burnt area with clean towels dipped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浸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st in a cool, quiet room. Find a comfortable position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ink plenty of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ut sunglasses on and cover sunburned skin when you go in the sun again so you don't get burned more.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3808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Verdana"/>
              </a:rPr>
              <a:t>Sunburns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66" name="images" descr=""/>
          <p:cNvPicPr/>
          <p:nvPr/>
        </p:nvPicPr>
        <p:blipFill>
          <a:blip r:embed="rId1"/>
          <a:stretch/>
        </p:blipFill>
        <p:spPr>
          <a:xfrm>
            <a:off x="7086600" y="0"/>
            <a:ext cx="205740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609480" y="914400"/>
            <a:ext cx="6172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990720"/>
            <a:ext cx="85726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ash your hands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wist a piece of tissu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棉签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isten the tip with tap water, and gently try to touch it with the tip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f the foreign object is under the upper li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眼睑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look down and pull the upper lid away from the eyeball by gently grabbing the eyelashe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睫毛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 not rub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揉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eye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ently wash the eye with cool water.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18040" y="304920"/>
            <a:ext cx="69505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To remove a foreign object </a:t>
            </a:r>
            <a:r>
              <a:rPr b="0" lang="zh-CN" sz="2800" spc="-1" strike="noStrike" u="sng">
                <a:solidFill>
                  <a:srgbClr val="40458c"/>
                </a:solidFill>
                <a:uFillTx/>
                <a:latin typeface="Arial"/>
              </a:rPr>
              <a:t>异物 </a:t>
            </a:r>
            <a:r>
              <a:rPr b="0" lang="en-US" sz="2800" spc="-1" strike="noStrike" u="sng">
                <a:solidFill>
                  <a:srgbClr val="40458c"/>
                </a:solidFill>
                <a:uFillTx/>
                <a:latin typeface="Arial"/>
                <a:ea typeface="Arial"/>
              </a:rPr>
              <a:t>in the ey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7:24:41Z</dcterms:modified>
  <cp:revision>7</cp:revision>
  <dc:subject/>
  <dc:title>PowerPoint Presentation</dc:title>
</cp:coreProperties>
</file>